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64C-F9B4-4768-AF76-0616220C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756-D62E-4588-B131-351CA2D2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BED-C22F-4BBE-A30C-1178A9A5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527-0BA0-4CDF-9421-ED1C558A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2FE-550F-48F6-B461-05A40956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C68-F879-47F0-A848-10C855CE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9CE-BF53-4A27-85DD-97C7739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211-B151-4152-88FA-7E0BB7D2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E01-8587-42FC-8C35-EF2E7291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D55-CD8E-46B7-94AA-758F32D1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D3A-84E9-40E1-918D-C4CB2B18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F07-AC09-4424-A80B-4BC531B7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2F8E-2749-4EE7-89A4-87163F293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en.wikipedia.org/wiki/Image:Archimedes_Heat_Ray_conceptual_diagram.svg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Archimedes_greece_1983.png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en.wikipedia.org/wiki/Image:Archimedes-screw_one-screw-threads_with-ball_3D-view_animated_small.gif" TargetMode="External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cs.drexel.edu/~crorres/Archimedes/Claw/harris/anim-b.mov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8799.jpg"/>
          <p:cNvPicPr/>
          <p:nvPr/>
        </p:nvPicPr>
        <p:blipFill>
          <a:blip r:embed="rId1"/>
          <a:stretch/>
        </p:blipFill>
        <p:spPr>
          <a:xfrm>
            <a:off x="1371600" y="3886200"/>
            <a:ext cx="1298520" cy="1676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Outdoor-Clock-11892TCH.jp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09680" y="76320"/>
            <a:ext cx="6705720" cy="38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ristina"/>
              </a:rPr>
              <a:t>Math Bl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Pristina"/>
              </a:rPr>
              <a:t>From the P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Pristina"/>
              <a:ea typeface="Pristina"/>
            </a:endParaRPr>
          </a:p>
        </p:txBody>
      </p:sp>
      <p:pic>
        <p:nvPicPr>
          <p:cNvPr id="44" name="" descr="fermilarge.jpg"/>
          <p:cNvPicPr/>
          <p:nvPr/>
        </p:nvPicPr>
        <p:blipFill>
          <a:blip r:embed="rId7"/>
          <a:stretch/>
        </p:blipFill>
        <p:spPr>
          <a:xfrm>
            <a:off x="-171360" y="4495680"/>
            <a:ext cx="153504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rchimedes.jpg"/>
          <p:cNvPicPr/>
          <p:nvPr/>
        </p:nvPicPr>
        <p:blipFill>
          <a:blip r:embed="rId8"/>
          <a:stretch/>
        </p:blipFill>
        <p:spPr>
          <a:xfrm>
            <a:off x="1371600" y="5562720"/>
            <a:ext cx="198108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Image:Domenico-Fetti Archimedes 1620.jpg"/>
          <p:cNvPicPr/>
          <p:nvPr/>
        </p:nvPicPr>
        <p:blipFill>
          <a:blip r:embed="rId9"/>
          <a:stretch/>
        </p:blipFill>
        <p:spPr>
          <a:xfrm>
            <a:off x="4038480" y="3924360"/>
            <a:ext cx="220032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94560" cy="60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603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38080" y="4952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81480" y="609480"/>
            <a:ext cx="31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ning 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Archimedes may have used mirrors acting as a parabolic reflector to burn ships attacking Syracu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2895480"/>
            <a:ext cx="31258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3995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4724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80680" y="563832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800" y="22860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3429000"/>
            <a:ext cx="37335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3581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400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88800" y="3124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4680" y="42958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197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86040" y="5232240"/>
            <a:ext cx="584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473200" y="3200400"/>
            <a:ext cx="6744600" cy="2057400"/>
            <a:chOff x="2473200" y="3200400"/>
            <a:chExt cx="6744600" cy="2057400"/>
          </a:xfrm>
        </p:grpSpPr>
        <p:sp>
          <p:nvSpPr>
            <p:cNvPr id="101" name=""/>
            <p:cNvSpPr/>
            <p:nvPr/>
          </p:nvSpPr>
          <p:spPr>
            <a:xfrm>
              <a:off x="5267160" y="464832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51000" y="46879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fe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15640" y="4572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 fe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64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dinosaur2.jpg"/>
            <p:cNvPicPr/>
            <p:nvPr/>
          </p:nvPicPr>
          <p:blipFill>
            <a:blip r:embed="rId1"/>
            <a:stretch/>
          </p:blipFill>
          <p:spPr>
            <a:xfrm>
              <a:off x="5952960" y="3200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174800" y="37339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3200" y="450684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676600" y="0"/>
            <a:ext cx="6464880" cy="1996920"/>
            <a:chOff x="2676600" y="0"/>
            <a:chExt cx="6464880" cy="1996920"/>
          </a:xfrm>
        </p:grpSpPr>
        <p:pic>
          <p:nvPicPr>
            <p:cNvPr id="109" name="" descr="dinosaur2.jpg"/>
            <p:cNvPicPr/>
            <p:nvPr/>
          </p:nvPicPr>
          <p:blipFill>
            <a:blip r:embed="rId2"/>
            <a:stretch/>
          </p:blipFill>
          <p:spPr>
            <a:xfrm>
              <a:off x="58770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676600" y="129528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7680" y="137160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98480" y="5335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7200" y="1476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9040" y="1360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62760" y="70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8360" y="5013360"/>
            <a:ext cx="43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889280"/>
            <a:ext cx="44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9240" y="251460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5 = 400 x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3124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9240" y="563868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8 = 400 x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20 ton dinosaur?  Place the dinosaur 10 feet from the fulcrum and pretend you weigh 100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team of 10 football players (weighing 200 pounds each)?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lifetime supply of candy bars?  Estimate that you can eat 2 pounds of candy each week for 70 years. 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19320" y="304920"/>
            <a:ext cx="647676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rchime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3317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2157120" cy="236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51600" y="2530440"/>
            <a:ext cx="31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Syra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(then part of Gree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287-212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346400" cy="1473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152280"/>
            <a:ext cx="861048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how to calculate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volum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  of a spher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, and even wanted th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diagram on his tombstone.  He made so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much progress in this area that noth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could be added for 18 centu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UREKA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(I have found it!) – Bouy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veloped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system of writ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larg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Law of the 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bubbletubblank.gif"/>
          <p:cNvPicPr/>
          <p:nvPr/>
        </p:nvPicPr>
        <p:blipFill>
          <a:blip r:embed="rId2"/>
          <a:stretch/>
        </p:blipFill>
        <p:spPr>
          <a:xfrm>
            <a:off x="7086600" y="2895480"/>
            <a:ext cx="1523880" cy="1181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0560" y="4129200"/>
            <a:ext cx="11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Maiandra GD"/>
              </a:rPr>
              <a:t>x</a:t>
            </a:r>
            <a:r>
              <a:rPr b="0" lang="en-US" sz="8800" spc="-1" strike="noStrike" baseline="30000">
                <a:solidFill>
                  <a:srgbClr val="cc0000"/>
                </a:solidFill>
                <a:latin typeface="Maiandra G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Lever.jpg"/>
          <p:cNvPicPr/>
          <p:nvPr/>
        </p:nvPicPr>
        <p:blipFill>
          <a:blip r:embed="rId3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08916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86200" y="28954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9880" y="533484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1522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Archimedes is commemorated on a Greek postage stamp from 198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2895480"/>
            <a:ext cx="1714680" cy="2352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10280" y="5335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Image:FieldsMedalFrontArchimedes.jpg"/>
          <p:cNvPicPr/>
          <p:nvPr/>
        </p:nvPicPr>
        <p:blipFill>
          <a:blip r:embed="rId5"/>
          <a:stretch/>
        </p:blipFill>
        <p:spPr>
          <a:xfrm>
            <a:off x="914400" y="434340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4320" y="649044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s Medal carries a portrait of Archimedes.</a:t>
            </a:r>
            <a:r>
              <a:rPr b="0" lang="en-US" sz="1800" spc="-1" strike="noStrike">
                <a:solidFill>
                  <a:srgbClr val="000000"/>
                </a:solidFill>
                <a:latin typeface="Pristi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5120" y="38088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The Archimedes' screw can raise water efficiently.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5486040" y="42670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480" y="627912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is is a pump, still used in many parts of 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303480"/>
            <a:ext cx="4038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539880" cy="415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343400" y="53352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28600"/>
            <a:ext cx="488952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867280" y="152388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574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6:00:49Z</dcterms:created>
  <dc:creator>SalgadoL</dc:creator>
  <dc:description/>
  <dc:language>en-US</dc:language>
  <cp:lastModifiedBy>Ineson</cp:lastModifiedBy>
  <dcterms:modified xsi:type="dcterms:W3CDTF">2011-06-06T00:05:08Z</dcterms:modified>
  <cp:revision>18</cp:revision>
  <dc:subject/>
  <dc:title>Slide 1</dc:title>
</cp:coreProperties>
</file>